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55C-DB8C-4187-8166-E1F0A943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D59-C1EB-426D-B67C-91588AEF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F8C-F5CE-46FD-988E-A111F95E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31E-A81D-4ABA-9915-74B9BB08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697-54E6-49CF-A43E-1015E5EE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627-DD94-4CE0-A632-90D24462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24E-039E-424C-AAF8-1A644955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111-7801-47C1-9381-C4D6A122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41F-9B41-4DF6-9B56-C24DFA45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AE7-2733-4215-86F6-3FAD52AC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752-936F-491A-80A1-B56B4839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D7B-A522-46C6-9FFD-D0D0B4CF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6F9A-E43D-4AA7-B2C5-30F38C740D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520" y="1447920"/>
            <a:ext cx="602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y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ot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posure 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3317760"/>
            <a:ext cx="7391520" cy="568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114800"/>
            <a:ext cx="6781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3336840"/>
            <a:ext cx="716292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162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3349800"/>
            <a:ext cx="716292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238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3235320"/>
            <a:ext cx="7162920" cy="727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086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2911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467480" cy="2911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895480" y="3809880"/>
            <a:ext cx="242568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2120" y="3809880"/>
            <a:ext cx="219708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257800" y="31240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7086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467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9608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19520" y="441972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441972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18148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5181480"/>
            <a:ext cx="914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6:02:45Z</dcterms:modified>
  <cp:revision>215</cp:revision>
  <dc:subject/>
  <dc:title>Slide 1</dc:title>
</cp:coreProperties>
</file>